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B9A-2F7A-48B6-A5CF-53ABD0FD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9187-1FF2-424C-B88C-C224559C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85FD-F225-4D93-AFD3-A4B77EA8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646A-EA28-40BF-A750-D1C3A5E6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3E44-4BBB-4B27-A0F2-A2EA8B61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213-2945-4AD9-8633-B530AD26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7D0-676F-42AA-A1C5-776963F0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EF7-E87D-454E-828E-89B74F18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CB1-FDDB-4066-8339-D6C15C1F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EFF-FE29-4933-BED8-958FE002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E89-87BC-4EBF-9D39-BB559AD5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99F-E0DF-433B-A48D-497370F9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F127-9FB4-4175-B127-AF0E5C65B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a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atie and S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y/10-24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Renegade"/>
          <p:cNvPicPr/>
          <p:nvPr/>
        </p:nvPicPr>
        <p:blipFill>
          <a:blip r:embed="rId1"/>
          <a:stretch/>
        </p:blipFill>
        <p:spPr>
          <a:xfrm>
            <a:off x="0" y="0"/>
            <a:ext cx="2824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for watching  :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they live in Tex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der of northern Me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che lived on the great pla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y eat and how did they get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te dear and ra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unted with bow and arrows the weapons gathered veg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re there daily lif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ing ,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men raised the young gathered grass to make bas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hunted and trained for comb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16952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re there traditions and celebra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d spiritual d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y believe and who did they wo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nder/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08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y known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ing hun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riors valued there childr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ontributions did they give to Tex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hanged for them as settlers arriv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y of life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20:42:53Z</dcterms:created>
  <dc:creator>hall</dc:creator>
  <dc:description/>
  <dc:language>en-US</dc:language>
  <cp:lastModifiedBy>hall</cp:lastModifiedBy>
  <dcterms:modified xsi:type="dcterms:W3CDTF">2011-10-24T21:48:54Z</dcterms:modified>
  <cp:revision>3</cp:revision>
  <dc:subject/>
  <dc:title>apache</dc:title>
</cp:coreProperties>
</file>